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7D4-E834-40EA-A105-319415D5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256-7FF5-4F62-A167-D3ADF5EE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7A1-7778-4C1D-93E6-BA6CC353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121-EF08-43E9-B3D0-7D75CC08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95B-1B61-4785-B6E9-FF747B48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0CF-15D6-4FD0-962C-241FBF63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08A-4AF9-43A1-8124-F904EAAE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3B0F-E05E-4DF7-AA2B-A82BA1BB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4514-09B8-4810-8133-2E4519ED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2D5-4032-4583-9275-30168DA0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BA0-E766-454E-A033-BCA6EA0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505-71C7-46F0-99C0-FD639FC4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6686-5258-4266-B2A0-DFD22DA0D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" Target="slide99.xml"/><Relationship Id="rId13" Type="http://schemas.openxmlformats.org/officeDocument/2006/relationships/slide" Target="slide101.xml"/><Relationship Id="rId14" Type="http://schemas.openxmlformats.org/officeDocument/2006/relationships/slide" Target="slide103.xml"/><Relationship Id="rId15" Type="http://schemas.openxmlformats.org/officeDocument/2006/relationships/slide" Target="slide105.xml"/><Relationship Id="rId16" Type="http://schemas.openxmlformats.org/officeDocument/2006/relationships/slide" Target="slide107.xml"/><Relationship Id="rId17" Type="http://schemas.openxmlformats.org/officeDocument/2006/relationships/slide" Target="slide109.xml"/><Relationship Id="rId18" Type="http://schemas.openxmlformats.org/officeDocument/2006/relationships/slide" Target="slide111.xml"/><Relationship Id="rId19" Type="http://schemas.openxmlformats.org/officeDocument/2006/relationships/slide" Target="slide113.xml"/><Relationship Id="rId20" Type="http://schemas.openxmlformats.org/officeDocument/2006/relationships/slide" Target="slide115.xml"/><Relationship Id="rId21" Type="http://schemas.openxmlformats.org/officeDocument/2006/relationships/slide" Target="slide117.xml"/><Relationship Id="rId22" Type="http://schemas.openxmlformats.org/officeDocument/2006/relationships/slide" Target="slide119.xml"/><Relationship Id="rId23" Type="http://schemas.openxmlformats.org/officeDocument/2006/relationships/slide" Target="slide121.xml"/><Relationship Id="rId24" Type="http://schemas.openxmlformats.org/officeDocument/2006/relationships/slide" Target="slide123.xml"/><Relationship Id="rId25" Type="http://schemas.openxmlformats.org/officeDocument/2006/relationships/slide" Target="slide125.xml"/><Relationship Id="rId26" Type="http://schemas.openxmlformats.org/officeDocument/2006/relationships/slide" Target="slide128.xml"/><Relationship Id="rId27" Type="http://schemas.openxmlformats.org/officeDocument/2006/relationships/slide" Target="slide130.xml"/><Relationship Id="rId28" Type="http://schemas.openxmlformats.org/officeDocument/2006/relationships/slide" Target="slide132.xml"/><Relationship Id="rId29" Type="http://schemas.openxmlformats.org/officeDocument/2006/relationships/slide" Target="slide134.xml"/><Relationship Id="rId30" Type="http://schemas.openxmlformats.org/officeDocument/2006/relationships/slide" Target="slide136.xml"/><Relationship Id="rId31" Type="http://schemas.openxmlformats.org/officeDocument/2006/relationships/slide" Target="slide138.xml"/><Relationship Id="rId32" Type="http://schemas.openxmlformats.org/officeDocument/2006/relationships/slide" Target="slide140.xml"/><Relationship Id="rId3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slide70.xml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78.xml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ELC3253.WAV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RNDO3253.WAV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FADE3253.WAV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oms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0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9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762120" y="2057400"/>
            <a:ext cx="76197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# of prot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ucleu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7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0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1066680" y="2057400"/>
            <a:ext cx="7086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omic Numb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300" name="CHIM3378.WAV" descr=""/>
          <p:cNvPicPr/>
          <p:nvPr/>
        </p:nvPicPr>
        <p:blipFill>
          <a:blip r:embed="rId5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689" fill="hold"/>
                                        <p:tgtEl>
                                          <p:spTgt spid="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914400" y="2057400"/>
            <a:ext cx="73915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ow of elemen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6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9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8" name="AutoShape 6">
            <a:hlinkClick r:id="rId1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990720" y="2057400"/>
            <a:ext cx="7315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Period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WordArt 2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WordArt 3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WordArt 2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2" name="jeop3394.wav" descr=""/>
          <p:cNvPicPr/>
          <p:nvPr/>
        </p:nvPicPr>
        <p:blipFill>
          <a:blip r:embed="rId1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11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4320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838080" y="2057400"/>
            <a:ext cx="74678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gas 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mperatu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990720" y="2057400"/>
            <a:ext cx="73152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n-Met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2"/>
          <p:cNvSpPr txBox="1"/>
          <p:nvPr/>
        </p:nvSpPr>
        <p:spPr>
          <a:xfrm>
            <a:off x="685800" y="1219320"/>
            <a:ext cx="75438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nucleus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762120" y="1371600"/>
            <a:ext cx="7772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ot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neutro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762120" y="1295280"/>
            <a:ext cx="77724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of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eri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stay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a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st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WILL3269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2"/>
          <p:cNvSpPr txBox="1"/>
          <p:nvPr/>
        </p:nvSpPr>
        <p:spPr>
          <a:xfrm>
            <a:off x="1066680" y="1828800"/>
            <a:ext cx="67820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ro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ducat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ues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066680" y="1828800"/>
            <a:ext cx="7086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hypothesi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609480" y="838080"/>
            <a:ext cx="80010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t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xperi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ari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762120" y="1143000"/>
            <a:ext cx="72388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ld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aine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way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ve your hand across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p, cautiously sniff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stan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2"/>
          <p:cNvSpPr txBox="1"/>
          <p:nvPr/>
        </p:nvSpPr>
        <p:spPr>
          <a:xfrm>
            <a:off x="1219320" y="1295280"/>
            <a:ext cx="69339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how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properl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mell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known 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2"/>
          <p:cNvSpPr txBox="1"/>
          <p:nvPr/>
        </p:nvSpPr>
        <p:spPr>
          <a:xfrm>
            <a:off x="914400" y="990720"/>
            <a:ext cx="701028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part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experimen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vestigator chang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2"/>
          <p:cNvSpPr txBox="1"/>
          <p:nvPr/>
        </p:nvSpPr>
        <p:spPr>
          <a:xfrm>
            <a:off x="990720" y="1828800"/>
            <a:ext cx="716256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dependent Varia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AutoShape 3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WordArt 2"/>
          <p:cNvSpPr txBox="1"/>
          <p:nvPr/>
        </p:nvSpPr>
        <p:spPr>
          <a:xfrm>
            <a:off x="1219320" y="990720"/>
            <a:ext cx="6705360" cy="510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amount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me it take f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mplete one revol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2"/>
          <p:cNvSpPr txBox="1"/>
          <p:nvPr/>
        </p:nvSpPr>
        <p:spPr>
          <a:xfrm>
            <a:off x="1066680" y="12193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b Hodge Podg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365 1/4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AutoShape 6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y do w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e 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lluminat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flection fr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un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gh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caus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ocea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id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vitation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ll from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>
            <a:off x="1981080" y="1371600"/>
            <a:ext cx="54864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en the Earth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sts it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hadow 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Mo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una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clip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2 reason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as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's til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revolu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ll L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olar Syste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ngaea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ive 2 piec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evidenc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suppor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inental drif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2"/>
          <p:cNvSpPr txBox="1"/>
          <p:nvPr/>
        </p:nvSpPr>
        <p:spPr>
          <a:xfrm>
            <a:off x="1600200" y="1143000"/>
            <a:ext cx="586728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ssi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lacial stri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igsaw puzz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 forma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1219320" y="1295280"/>
            <a:ext cx="68580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gma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s flow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ut on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arth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rf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v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1752480" y="1447920"/>
            <a:ext cx="55627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force tha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Earth'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ustal plat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mo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ve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urr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rack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k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 rock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ul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i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otosynthes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's Interio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loropla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2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ite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ellula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spira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2"/>
          <p:cNvSpPr txBox="1"/>
          <p:nvPr/>
        </p:nvSpPr>
        <p:spPr>
          <a:xfrm>
            <a:off x="990720" y="1752480"/>
            <a:ext cx="701028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tochondr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295280" y="1371600"/>
            <a:ext cx="655344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fspring t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ave the sam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m of a trait/ge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2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mozygous or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urebr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WordArt 2"/>
          <p:cNvSpPr txBox="1"/>
          <p:nvPr/>
        </p:nvSpPr>
        <p:spPr>
          <a:xfrm>
            <a:off x="1295280" y="1219320"/>
            <a:ext cx="624852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ich phase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atter h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o definate sha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no defin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um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2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a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914400" y="1219320"/>
            <a:ext cx="70866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An inherited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Characteristic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that changes an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Times New Roman"/>
              </a:rPr>
              <a:t>organism to better suit it's environment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61" name="CHIM3316.WAV" descr=""/>
          <p:cNvPicPr/>
          <p:nvPr/>
        </p:nvPicPr>
        <p:blipFill>
          <a:blip r:embed="rId9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ssil Fuel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iginate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om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nt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ima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mai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iv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nviron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 object 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ion wi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ay in mo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unless acted up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y an outsid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rt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rce that alw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pposes mo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i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ow to redu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ric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ubrica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wton's 1s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Law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ert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ownward for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pplied to al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bjects o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Gravit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Newt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WordArt 2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181" name="TADA.WAV" descr=""/>
          <p:cNvPicPr/>
          <p:nvPr/>
        </p:nvPicPr>
        <p:blipFill>
          <a:blip r:embed="rId5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939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FADE3316.WAV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67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2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WILL3316.WAV" descr=""/>
          <p:cNvPicPr/>
          <p:nvPr/>
        </p:nvPicPr>
        <p:blipFill>
          <a:blip r:embed="rId1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86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67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WordArt 2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2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38">
            <a:hlinkClick r:id="rId32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2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hemistr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2" name="WordArt 3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Lab Safet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Solar System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's Interio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Genet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Newton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Text Box 42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3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6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7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9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0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1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2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3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4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7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8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9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0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1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2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3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5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6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7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0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2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3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4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custGeom>
            <a:avLst/>
            <a:gdLst/>
            <a:ahLst/>
            <a:rect l="l" t="t" r="r" b="b"/>
            <a:pathLst>
              <a:path w="228600" h="152400">
                <a:moveTo>
                  <a:pt x="0" y="58211"/>
                </a:moveTo>
                <a:lnTo>
                  <a:pt x="87318" y="58212"/>
                </a:lnTo>
                <a:lnTo>
                  <a:pt x="114300" y="0"/>
                </a:lnTo>
                <a:lnTo>
                  <a:pt x="141282" y="58212"/>
                </a:lnTo>
                <a:lnTo>
                  <a:pt x="228600" y="58211"/>
                </a:lnTo>
                <a:lnTo>
                  <a:pt x="157958" y="94188"/>
                </a:lnTo>
                <a:lnTo>
                  <a:pt x="184941" y="152400"/>
                </a:lnTo>
                <a:lnTo>
                  <a:pt x="114300" y="116422"/>
                </a:lnTo>
                <a:lnTo>
                  <a:pt x="43659" y="152400"/>
                </a:lnTo>
                <a:lnTo>
                  <a:pt x="70642" y="94188"/>
                </a:lnTo>
                <a:lnTo>
                  <a:pt x="0" y="5821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9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2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5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2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914400" y="2057400"/>
            <a:ext cx="72388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 discovere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lectr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4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7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0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3" name="AutoShape 6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WordArt 2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6" name="AutoShape 5">
            <a:hlinkClick r:id="rId1" action="ppaction://hlinksldjump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2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Kristy Carlson</cp:lastModifiedBy>
  <dcterms:modified xsi:type="dcterms:W3CDTF">2011-04-25T15:53:47Z</dcterms:modified>
  <cp:revision>44</cp:revision>
  <dc:subject/>
  <dc:title>No Slide Title</dc:title>
</cp:coreProperties>
</file>